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591-382F-40BA-8D5D-0CF503C7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00E-4E3F-4899-AA0C-48F8A886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544-DEC9-4817-B868-BB634B22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755-E884-47EC-8E48-2F4FA205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E95-70A8-47EB-95D7-BFA6CE30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99F-5D95-48AB-BB66-A6AC5874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36B-5FA0-4D31-B377-CD59B792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9B2-8825-4FF5-A483-79C9C9DD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A87-6AD8-4496-9DF4-B7F1EB1D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01B-1B26-4BD8-851A-42236FF0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E2B-A40C-4BBE-9019-AF46157A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231-38FF-42F2-A8A2-1506D484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D94C-266F-4234-AA3B-AB84ACB39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lase 6nh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16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s fú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3 sentences about each of the following topic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6 in tota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 famili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 ca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05400" y="1295280"/>
            <a:ext cx="251928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70972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4952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jug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095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jug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0024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467480" y="21337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162920" y="3200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86692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886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028840" y="1447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419720" y="2209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219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12952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izqui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819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4191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4114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derec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334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l bal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205704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tablero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t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42900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67280" y="17524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port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50292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por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2724120" cy="215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971800" y="53341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spec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579132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espec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4724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5146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mar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3123720"/>
            <a:ext cx="62485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r a…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z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que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r un gol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ar un tant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rtid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imer tiemp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gundo tiemp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mpate (empatado)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ra-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stadio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763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914400"/>
            <a:ext cx="335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cond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3716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tie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12408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play..</a:t>
            </a:r>
            <a:r>
              <a:rPr b="0" i="1" lang="es-ES_tradnl" sz="2800" spc="-1" strike="noStrike">
                <a:solidFill>
                  <a:srgbClr val="333399"/>
                </a:solidFill>
                <a:latin typeface="Arial"/>
              </a:rPr>
              <a:t>(a s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73392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throw/ to k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3434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8769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54864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score a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60958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score a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7524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ta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p. 3; en voz alt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3-01-16T19:59:31Z</dcterms:modified>
  <cp:revision>22</cp:revision>
  <dc:subject/>
  <dc:title>Me llamo _________        Clase 7 IM La fecha es el 4 de noviembre del 2010</dc:title>
</cp:coreProperties>
</file>